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774-9DEE-483D-BC06-1A29E18B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5AA-D906-4131-93EC-E28A5C8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404-926D-4AA6-90A2-628CC87C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A29-ED10-49BA-9961-772FA2F6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59D-C3EB-4E45-BB17-D588FEA1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BB2-B048-4EFD-8FB0-C7EBDA55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D5F3-47B3-4DF7-A481-22D04AF1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452-AEDE-44B0-A79C-5092C08A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2EDD-AD90-4207-A7EF-1086602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7D8-AF94-4055-A7CC-E7AE89F9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904F-14B2-4AD5-8C23-E87859D6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E31-1E4A-4BA1-A507-B891010D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C40E-5B2B-4DD5-ABD9-747F7CEF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78B7-431C-4269-93DA-20A54F93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5ED1-2A3B-4D60-83D4-07892301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4E76-C2CC-4D22-9B10-062A92BE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03F1-9185-45E7-97FF-F9ABAFD1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6BD-4BFD-4683-AC93-641C3FFB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1FE-6143-4250-A4C2-606908BB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F0C-79A9-45EF-AA51-3D5A1EC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15F-0F89-40C6-A03D-FB01DA4D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B2A-4EDC-4129-978C-B98DE0A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CD8-7EF8-486C-B559-D3CD434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800-DF7A-4323-B7C6-6F60679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6279-FC42-4FFA-9450-F86B93D1A2E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FF3-9393-4DA6-9341-824A9D0DFE0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7d47d"/>
                </a:solidFill>
                <a:latin typeface="Arial"/>
              </a:rPr>
              <a:t>METODA BACKTRACKING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083960" y="3870360"/>
            <a:ext cx="574524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2f1311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2f1311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364000" y="177336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2f1311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2f1311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2f1311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2:17Z</dcterms:modified>
  <cp:revision>32</cp:revision>
  <dc:subject/>
  <dc:title>SALARIUL</dc:title>
</cp:coreProperties>
</file>